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0E328-1AFA-43F3-B2FA-88A911D36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5E4B-F09F-4001-AAB2-75BA8C406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1F6D1-98C7-4CD7-8CF8-DD456252F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ACFE9-77AB-4FCF-B145-9ADD250E8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04BD2-D4E8-49F9-9E26-486DFFE5C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72AED-C310-4D6F-9479-42B889EE9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3B7FB-9D82-4E7A-B17B-3F9258341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C3D46-C7CA-4D8E-AB43-9CAF72BE1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0F6A9-4F9C-4210-B36B-73C1D3E7B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7DFCE-10E3-4042-B330-327933805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B749F-3C96-4799-B432-C5A219A49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5A742-39F9-400C-B9F8-F630BC7F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4A40-EEFA-4105-90FC-9C32C00AB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B215-401B-4EEB-880D-68E65AD78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8F26A-B70D-45DE-8DEF-DC93D0D87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9A1D7-8F08-4EEB-9C59-7D8EC4F76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2DB1E-66E4-4E3D-ABFD-C513EF9F6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297D4-ECC6-4B31-94D0-53F8E139D3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C26E9-7E75-4A51-A2BD-DCFE9EE6F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83CF16-3AFF-4455-9F95-83FB9E2266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CA52D5-4021-41F4-8792-3BE73B843A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1924A-BD71-46CD-85C5-58A3BE638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A87AC-C54E-414D-B1F5-D9FF6B72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E464C-E813-4E14-B75E-AC41603E4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6405D-78FE-4F8F-8D33-E208135F8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8EBCA-E788-47B3-94F0-C87A101F9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7A31A-3AF6-40F4-BFFB-56AAE7B0A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B3465-7AEE-4530-B820-1D3051D42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0BF3B9-0192-44E3-90A9-D6314D6E76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4AA206-17AC-4EA7-9456-7D5E228123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82A72-E73E-4CAC-9718-4BF6E1D27B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3D0D2-E4B2-4DC3-86CF-AC2F09CC0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9BE08-6C52-4DC1-84C6-A52C71541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381C1-BB2B-4630-9A80-8A5CA33DA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FC8362-AA97-40ED-81CB-B3C6805E7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F6BCC6-4763-41D1-B3B7-2766DAC46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A653C9-2531-49F3-A57A-07C44653C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3FF30-A971-429F-9A3C-B0734694C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E11A7-AF3F-46B7-BE23-44A4AFB59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6CDF7-967D-4475-A94F-C809F0514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6E514-DC2F-4C66-810D-DC473F3223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2E5447-4CAF-424C-85BF-E1EE99D00D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3953D-9554-4373-BE41-0C81776D5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54B93-6488-4359-B9A2-C33D23DFE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F0C88-8488-4CD3-82F0-50DD1D9BB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3D3A9-F05E-4A08-BE2E-D728E75E1F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BEB12-BB7A-4339-8997-FD20E78BC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54AF82-E7A1-4774-9F0D-4F398BF0E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C98DB-3889-498E-86C0-618AD5E6A9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2FC43C-26E0-4F3A-8A1F-61632841F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5B837-A436-4ABF-B533-9949F267E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91398-E1F3-49CD-8F5E-6A631B207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5525E-1463-45BD-8BC8-F0CF276D7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D8F45-DC5F-4FD1-90A9-192B0ACDA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8B2B2E-E0F9-471B-ABA5-C6ADFDAD4E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BA42-50F3-44AC-B01D-5C139DF4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1415BF-FD9E-4637-9112-5A44AB2CED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3E6F9F-2FF2-4D07-A2C4-84CD851FCC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59A021-7EA8-464D-82C0-71F327AE5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E99C3-76A8-4560-90A2-512E6168C1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3AB9A-2EAE-4642-9C11-E145E2EE1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443025-DE4A-4FB3-95F3-E13B2730D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054B7D-ED4A-42CB-9539-F3761942F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DF6CC-3267-4A1B-AFE4-EDD8A215C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6E039-7451-4EA0-850E-641D1954F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4639A-8D73-4593-BF29-6548429E9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83F3-6588-4AAE-9FB1-8D85EBA3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5EF55-40D3-49CF-BFAA-7A6E34159A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5C7B65-4085-411D-ABA1-FEA975A62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3214D8-94B5-40D1-A93E-0A6BA56795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D02779-80B8-4744-BAF0-80DB3BDCD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35FD21-C33C-43AD-B9BB-9EE9D52AC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8B34C9-2627-41A4-B859-EDAF5522D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21263-F11C-4482-8BDF-0529909051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152BA5-8F98-40BE-A0C5-40A8EB54C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092DC8-F19E-404F-90D5-D110BAA247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7812B-DB81-4A3E-8EF4-9F334366A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B637C-5ADC-47BE-BB83-5856B0CC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F6C35-CE8B-47C1-9833-BCCEC430F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2314B5-20C8-4CAC-9856-F32ED5177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FA752D-92D7-4E25-8142-7FC955F4A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839DDB-2736-44EA-97C0-7F7749FC8F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7F9ADF-1F62-4F7C-8759-ECDCAA4507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72FA4C-E89C-4243-A3A2-8AB0B44675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67389B-B1DB-4552-94D6-E32CEA4914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E67369-1551-46B8-BDC3-F4872B1B9F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0A970-E818-4CB8-9E95-15B91E3583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D64651-6448-47DF-B859-0A846F21B5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322A-F3C8-42A1-918F-4D1295741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F217F-7297-4952-8586-31D2CFFDF1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DE235-C50B-4346-AE87-3BD28EEDE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1E6E76-0304-4DAE-B5AA-749CAC524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C70D7-6F3E-460E-8A44-5C3EA2C0B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8D98B-D9CF-4F64-8F88-33517AD8E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16075C-4E6C-46F6-AC11-04E0B2BCC1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82B0EB-474F-4E0A-8E71-BCBF07013DD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1AA16-C01D-42FD-A6C2-E56A0005EA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140B-54A5-4DFD-AD71-011BDC83EF6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109B-AF44-4631-8CE6-AC7B5F2C69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7743-F09D-4DA6-B1EB-727C67E388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632BA-F4C0-4631-82A5-D171A7FC48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9B2A-D61E-413A-BCCE-47E27BD769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0433-EF77-44A1-8924-DC7701896E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8AAA-A5EF-4942-970F-2792BD27DE4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imgres?imgurl=http://thejustlife.org/home/wp-content/uploads/2011/07/federal_police.jpg&amp;imgrefurl=http://thejustlife.org/home/2011/07/26/police-arrest-1000-in-mexico-human-trafficking-raids/&amp;usg=__t-HKjvQCe4cbXLOvrXBIFfK8szg=&amp;h=488&amp;w=650&amp;sz=404&amp;hl=en&amp;start=17&amp;zoom=1&amp;tbnid=8bpPz4n165vdGM:&amp;tbnh=103&amp;tbnw=137&amp;ei=1NN5TrbCJMyztweQrq3pDw&amp;prev=/search%3Fq%3Dminors%2Bsaved%26hl%3Den%26safe%3Dactive%26sa%3DG%26rlz%3D1T4ADBS_enUS317US321%26tbm%3Disch&amp;itbs=1" TargetMode="External"/><Relationship Id="rId3" Type="http://schemas.openxmlformats.org/officeDocument/2006/relationships/image" Target="../media/image13.jpeg"/><Relationship Id="rId4" Type="http://schemas.openxmlformats.org/officeDocument/2006/relationships/hyperlink" Target="http://www.google.com/imgres?imgurl=http://greenenergyv.com/wp-content/uploads/2011/05/Green-Energy1.jpg&amp;imgrefurl=http://greenenergyv.com/&amp;usg=__98cWfiWIdgkvz3kYG3GRlldMDT0=&amp;h=1600&amp;w=1600&amp;sz=229&amp;hl=en&amp;start=1&amp;zoom=1&amp;tbnid=_oMjqm4N-jpIHM:&amp;tbnh=150&amp;tbnw=150&amp;ei=q9R5TrLHH4mctweKuq3pDw&amp;prev=/search%3Fq%3Dgreen%2Benergy%26hl%3Den%26safe%3Dactive%26sa%3DG%26rlz%3D1T4ADBS_enUS317US321%26tbm%3Disch&amp;itbs=1"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7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Title 1" descr=""/>
          <p:cNvPicPr/>
          <p:nvPr/>
        </p:nvPicPr>
        <p:blipFill>
          <a:blip r:embed="rId2"/>
          <a:stretch/>
        </p:blipFill>
        <p:spPr>
          <a:xfrm>
            <a:off x="92160" y="1865160"/>
            <a:ext cx="8601120" cy="218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Title 1" descr=""/>
          <p:cNvPicPr/>
          <p:nvPr/>
        </p:nvPicPr>
        <p:blipFill>
          <a:blip r:embed="rId2"/>
          <a:stretch/>
        </p:blipFill>
        <p:spPr>
          <a:xfrm>
            <a:off x="73080" y="146160"/>
            <a:ext cx="9120240" cy="1158840"/>
          </a:xfrm>
          <a:prstGeom prst="rect">
            <a:avLst/>
          </a:prstGeom>
          <a:ln w="0">
            <a:noFill/>
          </a:ln>
        </p:spPr>
      </p:pic>
      <p:sp>
        <p:nvSpPr>
          <p:cNvPr id="387" name="TextBox 2"/>
          <p:cNvSpPr/>
          <p:nvPr/>
        </p:nvSpPr>
        <p:spPr>
          <a:xfrm>
            <a:off x="304920" y="1295280"/>
            <a:ext cx="8305560" cy="49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MONRO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Brenda Campbell</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Carolyn Moore, IC</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ulie Millar, Science-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pril Ulmer, Math- 8</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Lisa Dantzler, ELA- 7</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essica Thorn, Humanities-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Marsha Graves, Technology</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Edie Robinson,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What not to do</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Globalization, Innovation, Graduation Rat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Vision &amp; Share, Share, Sha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lain new courses to students &amp; par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Two Academies ther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Title 1" descr=""/>
          <p:cNvPicPr/>
          <p:nvPr/>
        </p:nvPicPr>
        <p:blipFill>
          <a:blip r:embed="rId2"/>
          <a:stretch/>
        </p:blipFill>
        <p:spPr>
          <a:xfrm>
            <a:off x="73080" y="146160"/>
            <a:ext cx="9120240" cy="1158840"/>
          </a:xfrm>
          <a:prstGeom prst="rect">
            <a:avLst/>
          </a:prstGeom>
          <a:ln w="0">
            <a:noFill/>
          </a:ln>
        </p:spPr>
      </p:pic>
      <p:sp>
        <p:nvSpPr>
          <p:cNvPr id="389" name="TextBox 2"/>
          <p:cNvSpPr/>
          <p:nvPr/>
        </p:nvSpPr>
        <p:spPr>
          <a:xfrm>
            <a:off x="304920" y="1295280"/>
            <a:ext cx="8305560" cy="569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LAKESID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Chanda Hare, Science-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heneka Miller, Math-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Harriet Flinn, ELA-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Pam East, Home Arts/Technology</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Wilson Mew, Humanities-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uren Yon,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iz Hood, Media Specialist</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evin Moore,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iteracy across all cont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mart Lab</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lectronic portfolios, 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Q, Obj. on every board in classroom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pecific PLC days per wee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Title 1" descr=""/>
          <p:cNvPicPr/>
          <p:nvPr/>
        </p:nvPicPr>
        <p:blipFill>
          <a:blip r:embed="rId2"/>
          <a:stretch/>
        </p:blipFill>
        <p:spPr>
          <a:xfrm>
            <a:off x="73080" y="146160"/>
            <a:ext cx="9120240" cy="1158840"/>
          </a:xfrm>
          <a:prstGeom prst="rect">
            <a:avLst/>
          </a:prstGeom>
          <a:ln w="0">
            <a:noFill/>
          </a:ln>
        </p:spPr>
      </p:pic>
      <p:sp>
        <p:nvSpPr>
          <p:cNvPr id="391" name="TextBox 2"/>
          <p:cNvSpPr/>
          <p:nvPr/>
        </p:nvSpPr>
        <p:spPr>
          <a:xfrm>
            <a:off x="228600" y="1066680"/>
            <a:ext cx="8305920" cy="579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BRUNSON ELEMENTARY &amp; HANES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udrey Sullivan,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indy Bradley,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Math</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ngie Clark, Visual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imee Tracy,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ykora Cobb,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ELA,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irk Robinson,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Humanities</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ngineering Elementary School</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30 million in gra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tegration into core classe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ject Lead the Way lab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Grade level quarterly projec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ubs &amp; competitions galo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at is STEM?</a:t>
            </a:r>
            <a:endParaRPr b="1" lang="en-US" sz="4100" spc="-1" strike="noStrike">
              <a:solidFill>
                <a:srgbClr val="def5fa"/>
              </a:solidFill>
              <a:latin typeface="Century Gothic"/>
            </a:endParaRPr>
          </a:p>
        </p:txBody>
      </p:sp>
      <p:grpSp>
        <p:nvGrpSpPr>
          <p:cNvPr id="393" name=""/>
          <p:cNvGrpSpPr/>
          <p:nvPr/>
        </p:nvGrpSpPr>
        <p:grpSpPr>
          <a:xfrm>
            <a:off x="685440" y="1522800"/>
            <a:ext cx="8001000" cy="3066480"/>
            <a:chOff x="685440" y="1522800"/>
            <a:chExt cx="8001000" cy="3066480"/>
          </a:xfrm>
        </p:grpSpPr>
        <p:cxnSp>
          <p:nvCxnSpPr>
            <p:cNvPr id="394" name="_s22543"/>
            <p:cNvCxnSpPr>
              <a:stCxn id="395" idx="0"/>
              <a:endCxn id="396" idx="2"/>
            </p:cNvCxnSpPr>
            <p:nvPr/>
          </p:nvCxnSpPr>
          <p:spPr>
            <a:xfrm flipV="1" rot="16200000">
              <a:off x="5885280" y="1522440"/>
              <a:ext cx="534960" cy="2781360"/>
            </a:xfrm>
            <a:prstGeom prst="bentConnector3">
              <a:avLst>
                <a:gd name="adj1" fmla="val 21346"/>
              </a:avLst>
            </a:prstGeom>
            <a:ln w="28440">
              <a:solidFill>
                <a:srgbClr val="ffffff"/>
              </a:solidFill>
              <a:miter/>
            </a:ln>
          </p:spPr>
        </p:cxnSp>
        <p:cxnSp>
          <p:nvCxnSpPr>
            <p:cNvPr id="397" name="_s22542"/>
            <p:cNvCxnSpPr>
              <a:stCxn id="398" idx="0"/>
              <a:endCxn id="396" idx="2"/>
            </p:cNvCxnSpPr>
            <p:nvPr/>
          </p:nvCxnSpPr>
          <p:spPr>
            <a:xfrm flipH="1" flipV="1" rot="5400000">
              <a:off x="4456800" y="2894760"/>
              <a:ext cx="554040" cy="57600"/>
            </a:xfrm>
            <a:prstGeom prst="bentConnector3">
              <a:avLst>
                <a:gd name="adj1" fmla="val 20611"/>
              </a:avLst>
            </a:prstGeom>
            <a:ln w="28440">
              <a:solidFill>
                <a:srgbClr val="ffffff"/>
              </a:solidFill>
              <a:miter/>
            </a:ln>
          </p:spPr>
        </p:cxnSp>
        <p:cxnSp>
          <p:nvCxnSpPr>
            <p:cNvPr id="399" name="_s22541"/>
            <p:cNvCxnSpPr>
              <a:stCxn id="400" idx="0"/>
              <a:endCxn id="396" idx="2"/>
            </p:cNvCxnSpPr>
            <p:nvPr/>
          </p:nvCxnSpPr>
          <p:spPr>
            <a:xfrm flipH="1" flipV="1" rot="5400000">
              <a:off x="3018240" y="1456200"/>
              <a:ext cx="554040" cy="2934360"/>
            </a:xfrm>
            <a:prstGeom prst="bentConnector3">
              <a:avLst>
                <a:gd name="adj1" fmla="val 20611"/>
              </a:avLst>
            </a:prstGeom>
            <a:ln w="28440">
              <a:solidFill>
                <a:srgbClr val="ffffff"/>
              </a:solidFill>
              <a:miter/>
            </a:ln>
          </p:spPr>
        </p:cxnSp>
        <p:sp>
          <p:nvSpPr>
            <p:cNvPr id="396" name="_s22537"/>
            <p:cNvSpPr/>
            <p:nvPr/>
          </p:nvSpPr>
          <p:spPr>
            <a:xfrm>
              <a:off x="3733560" y="1522800"/>
              <a:ext cx="2057040" cy="112356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EM</a:t>
              </a:r>
              <a:endParaRPr b="0" lang="en-US" sz="3100" spc="-1" strike="noStrike">
                <a:solidFill>
                  <a:srgbClr val="000000"/>
                </a:solidFill>
                <a:latin typeface="Century Gothic"/>
              </a:endParaRPr>
            </a:p>
          </p:txBody>
        </p:sp>
        <p:sp>
          <p:nvSpPr>
            <p:cNvPr id="400" name="_s22538"/>
            <p:cNvSpPr/>
            <p:nvPr/>
          </p:nvSpPr>
          <p:spPr>
            <a:xfrm>
              <a:off x="685440" y="3200400"/>
              <a:ext cx="2286000" cy="136944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 &amp; Science Skill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s peopl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 world</a:t>
              </a:r>
              <a:endParaRPr b="0" lang="en-US" sz="1800" spc="-1" strike="noStrike">
                <a:solidFill>
                  <a:srgbClr val="000000"/>
                </a:solidFill>
                <a:latin typeface="Century Gothic"/>
              </a:endParaRPr>
            </a:p>
          </p:txBody>
        </p:sp>
        <p:sp>
          <p:nvSpPr>
            <p:cNvPr id="398" name="_s22539"/>
            <p:cNvSpPr/>
            <p:nvPr/>
          </p:nvSpPr>
          <p:spPr>
            <a:xfrm>
              <a:off x="3581280" y="3200400"/>
              <a:ext cx="224712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orld</a:t>
              </a:r>
              <a:endParaRPr b="0" lang="en-US" sz="1800" spc="-1" strike="noStrike">
                <a:solidFill>
                  <a:srgbClr val="000000"/>
                </a:solidFill>
                <a:latin typeface="Century Gothic"/>
              </a:endParaRPr>
            </a:p>
          </p:txBody>
        </p:sp>
        <p:sp>
          <p:nvSpPr>
            <p:cNvPr id="395" name="_s22540"/>
            <p:cNvSpPr/>
            <p:nvPr/>
          </p:nvSpPr>
          <p:spPr>
            <a:xfrm>
              <a:off x="6400800" y="3180960"/>
              <a:ext cx="228564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chnology</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a:t>
              </a:r>
              <a:endParaRPr b="0" lang="en-US" sz="1800" spc="-1" strike="noStrike">
                <a:solidFill>
                  <a:srgbClr val="000000"/>
                </a:solidFill>
                <a:latin typeface="Century Gothic"/>
              </a:endParaRPr>
            </a:p>
          </p:txBody>
        </p:sp>
      </p:grpSp>
      <p:sp>
        <p:nvSpPr>
          <p:cNvPr id="401" name=""/>
          <p:cNvSpPr/>
          <p:nvPr/>
        </p:nvSpPr>
        <p:spPr>
          <a:xfrm>
            <a:off x="1219320" y="5029200"/>
            <a:ext cx="7086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 paper airplane that flies the longest distance is the technology developed.  The airplane as technology happened because of the engineering that took place prior.  The engineering was possible because of the math and science skills the person possesse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How do we teach STEM?</a:t>
            </a:r>
            <a:endParaRPr b="1" lang="en-US" sz="4100" spc="-1" strike="noStrike">
              <a:solidFill>
                <a:srgbClr val="def5fa"/>
              </a:solidFill>
              <a:latin typeface="Century Gothic"/>
            </a:endParaRPr>
          </a:p>
        </p:txBody>
      </p:sp>
      <p:grpSp>
        <p:nvGrpSpPr>
          <p:cNvPr id="403" name=""/>
          <p:cNvGrpSpPr/>
          <p:nvPr/>
        </p:nvGrpSpPr>
        <p:grpSpPr>
          <a:xfrm>
            <a:off x="2143080" y="1765800"/>
            <a:ext cx="4859280" cy="4470480"/>
            <a:chOff x="2143080" y="1765800"/>
            <a:chExt cx="4859280" cy="4470480"/>
          </a:xfrm>
        </p:grpSpPr>
        <p:sp>
          <p:nvSpPr>
            <p:cNvPr id="404" name="_s23561"/>
            <p:cNvSpPr/>
            <p:nvPr/>
          </p:nvSpPr>
          <p:spPr>
            <a:xfrm>
              <a:off x="2921040" y="1765800"/>
              <a:ext cx="3303720" cy="3038760"/>
            </a:xfrm>
            <a:custGeom>
              <a:avLst/>
              <a:gdLst>
                <a:gd name="textAreaLeft" fmla="*/ 0 w 3303720"/>
                <a:gd name="textAreaRight" fmla="*/ 3304080 w 3303720"/>
                <a:gd name="textAreaTop" fmla="*/ 0 h 3038760"/>
                <a:gd name="textAreaBottom" fmla="*/ 3039120 h 3038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ff811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5" name="_s23562"/>
            <p:cNvSpPr/>
            <p:nvPr/>
          </p:nvSpPr>
          <p:spPr>
            <a:xfrm rot="5400000">
              <a:off x="3831120" y="2348640"/>
              <a:ext cx="3039120" cy="3303360"/>
            </a:xfrm>
            <a:custGeom>
              <a:avLst/>
              <a:gdLst>
                <a:gd name="textAreaLeft" fmla="*/ 0 w 3039120"/>
                <a:gd name="textAreaRight" fmla="*/ 3039480 w 3039120"/>
                <a:gd name="textAreaTop" fmla="*/ 0 h 3303360"/>
                <a:gd name="textAreaBottom" fmla="*/ 3303720 h 3303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4b9e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6" name="_s23566"/>
            <p:cNvSpPr/>
            <p:nvPr/>
          </p:nvSpPr>
          <p:spPr>
            <a:xfrm rot="10800000">
              <a:off x="2920680" y="3197160"/>
              <a:ext cx="3303720" cy="3039120"/>
            </a:xfrm>
            <a:custGeom>
              <a:avLst/>
              <a:gdLst>
                <a:gd name="textAreaLeft" fmla="*/ 0 w 3303720"/>
                <a:gd name="textAreaRight" fmla="*/ 3304080 w 3303720"/>
                <a:gd name="textAreaTop" fmla="*/ 0 h 3039120"/>
                <a:gd name="textAreaBottom" fmla="*/ 3039480 h 303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6464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7" name="_s23564"/>
            <p:cNvSpPr/>
            <p:nvPr/>
          </p:nvSpPr>
          <p:spPr>
            <a:xfrm rot="16200000">
              <a:off x="2275200" y="2348640"/>
              <a:ext cx="3039120" cy="3303720"/>
            </a:xfrm>
            <a:custGeom>
              <a:avLst/>
              <a:gdLst>
                <a:gd name="textAreaLeft" fmla="*/ 0 w 3039120"/>
                <a:gd name="textAreaRight" fmla="*/ 3039480 w 3039120"/>
                <a:gd name="textAreaTop" fmla="*/ 0 h 3303720"/>
                <a:gd name="textAreaBottom" fmla="*/ 3304080 h 33037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2da2b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8" name="_s23559"/>
            <p:cNvSpPr/>
            <p:nvPr/>
          </p:nvSpPr>
          <p:spPr>
            <a:xfrm>
              <a:off x="5451480" y="2044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Century Gothic"/>
              </a:endParaRPr>
            </a:p>
          </p:txBody>
        </p:sp>
        <p:sp>
          <p:nvSpPr>
            <p:cNvPr id="409" name="_s23560"/>
            <p:cNvSpPr/>
            <p:nvPr/>
          </p:nvSpPr>
          <p:spPr>
            <a:xfrm>
              <a:off x="5451480" y="4807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Century Gothic"/>
              </a:endParaRPr>
            </a:p>
          </p:txBody>
        </p:sp>
        <p:sp>
          <p:nvSpPr>
            <p:cNvPr id="410" name="_s23563"/>
            <p:cNvSpPr/>
            <p:nvPr/>
          </p:nvSpPr>
          <p:spPr>
            <a:xfrm>
              <a:off x="2446200" y="2046240"/>
              <a:ext cx="124488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a:t>
              </a:r>
              <a:endParaRPr b="0" lang="en-US" sz="2000" spc="-1" strike="noStrike">
                <a:solidFill>
                  <a:srgbClr val="000000"/>
                </a:solidFill>
                <a:latin typeface="Century Gothic"/>
              </a:endParaRPr>
            </a:p>
          </p:txBody>
        </p:sp>
        <p:sp>
          <p:nvSpPr>
            <p:cNvPr id="411" name="_s23565"/>
            <p:cNvSpPr/>
            <p:nvPr/>
          </p:nvSpPr>
          <p:spPr>
            <a:xfrm>
              <a:off x="2448000" y="4809240"/>
              <a:ext cx="1244520" cy="114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a:t>
              </a:r>
              <a:endParaRPr b="0" lang="en-US" sz="2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y do we teach STEM?</a:t>
            </a:r>
            <a:endParaRPr b="1" lang="en-US" sz="4100" spc="-1" strike="noStrike">
              <a:solidFill>
                <a:srgbClr val="def5fa"/>
              </a:solidFill>
              <a:latin typeface="Century Gothic"/>
            </a:endParaRPr>
          </a:p>
        </p:txBody>
      </p:sp>
      <p:pic>
        <p:nvPicPr>
          <p:cNvPr id="413" name="" descr="">
            <a:hlinkClick r:id="rId2"/>
          </p:cNvPr>
          <p:cNvPicPr/>
          <p:nvPr/>
        </p:nvPicPr>
        <p:blipFill>
          <a:blip r:embed="rId3"/>
          <a:stretch/>
        </p:blipFill>
        <p:spPr>
          <a:xfrm>
            <a:off x="0" y="3276720"/>
            <a:ext cx="3505320" cy="2635200"/>
          </a:xfrm>
          <a:prstGeom prst="rect">
            <a:avLst/>
          </a:prstGeom>
          <a:ln w="0">
            <a:noFill/>
          </a:ln>
        </p:spPr>
      </p:pic>
      <p:sp>
        <p:nvSpPr>
          <p:cNvPr id="414" name=""/>
          <p:cNvSpPr/>
          <p:nvPr/>
        </p:nvSpPr>
        <p:spPr>
          <a:xfrm>
            <a:off x="228600" y="12193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pare our students to solve real world problems </a:t>
            </a:r>
            <a:endParaRPr b="0" lang="en-US" sz="2800" spc="-1" strike="noStrike">
              <a:solidFill>
                <a:srgbClr val="000000"/>
              </a:solidFill>
              <a:latin typeface="Century Gothic"/>
            </a:endParaRPr>
          </a:p>
        </p:txBody>
      </p:sp>
      <p:sp>
        <p:nvSpPr>
          <p:cNvPr id="415" name=""/>
          <p:cNvSpPr/>
          <p:nvPr/>
        </p:nvSpPr>
        <p:spPr>
          <a:xfrm>
            <a:off x="22860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 trapped minors</a:t>
            </a:r>
            <a:endParaRPr b="0" lang="en-US" sz="2400" spc="-1" strike="noStrike">
              <a:solidFill>
                <a:srgbClr val="000000"/>
              </a:solidFill>
              <a:latin typeface="Century Gothic"/>
            </a:endParaRPr>
          </a:p>
        </p:txBody>
      </p:sp>
      <p:pic>
        <p:nvPicPr>
          <p:cNvPr id="416" name="" descr="">
            <a:hlinkClick r:id="rId4"/>
          </p:cNvPr>
          <p:cNvPicPr/>
          <p:nvPr/>
        </p:nvPicPr>
        <p:blipFill>
          <a:blip r:embed="rId5"/>
          <a:stretch/>
        </p:blipFill>
        <p:spPr>
          <a:xfrm>
            <a:off x="6629400" y="1676520"/>
            <a:ext cx="2514600" cy="2514600"/>
          </a:xfrm>
          <a:prstGeom prst="rect">
            <a:avLst/>
          </a:prstGeom>
          <a:ln w="0">
            <a:noFill/>
          </a:ln>
        </p:spPr>
      </p:pic>
      <p:sp>
        <p:nvSpPr>
          <p:cNvPr id="417" name=""/>
          <p:cNvSpPr/>
          <p:nvPr/>
        </p:nvSpPr>
        <p:spPr>
          <a:xfrm>
            <a:off x="6629400" y="426708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t>
            </a:r>
            <a:endParaRPr b="0" lang="en-US" sz="2400" spc="-1" strike="noStrike">
              <a:solidFill>
                <a:srgbClr val="000000"/>
              </a:solidFill>
              <a:latin typeface="Century Gothic"/>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energy</a:t>
            </a:r>
            <a:endParaRPr b="0" lang="en-US" sz="2400" spc="-1" strike="noStrike">
              <a:solidFill>
                <a:srgbClr val="000000"/>
              </a:solidFill>
              <a:latin typeface="Century Gothic"/>
            </a:endParaRPr>
          </a:p>
        </p:txBody>
      </p:sp>
      <p:pic>
        <p:nvPicPr>
          <p:cNvPr id="418" name="" descr=""/>
          <p:cNvPicPr/>
          <p:nvPr/>
        </p:nvPicPr>
        <p:blipFill>
          <a:blip r:embed="rId6"/>
          <a:stretch/>
        </p:blipFill>
        <p:spPr>
          <a:xfrm>
            <a:off x="3657600" y="4191120"/>
            <a:ext cx="3200400" cy="2295360"/>
          </a:xfrm>
          <a:prstGeom prst="rect">
            <a:avLst/>
          </a:prstGeom>
          <a:ln w="0">
            <a:noFill/>
          </a:ln>
        </p:spPr>
      </p:pic>
      <p:sp>
        <p:nvSpPr>
          <p:cNvPr id="419" name=""/>
          <p:cNvSpPr/>
          <p:nvPr/>
        </p:nvSpPr>
        <p:spPr>
          <a:xfrm>
            <a:off x="4191120" y="2590920"/>
            <a:ext cx="175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a:t>
            </a:r>
            <a:endParaRPr b="0" lang="en-US" sz="2400" spc="-1" strike="noStrike">
              <a:solidFill>
                <a:srgbClr val="000000"/>
              </a:solidFill>
              <a:latin typeface="Century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oil spill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Title 1" descr=""/>
          <p:cNvPicPr/>
          <p:nvPr/>
        </p:nvPicPr>
        <p:blipFill>
          <a:blip r:embed="rId2"/>
          <a:stretch/>
        </p:blipFill>
        <p:spPr>
          <a:xfrm>
            <a:off x="195120" y="268200"/>
            <a:ext cx="8498160" cy="1158840"/>
          </a:xfrm>
          <a:prstGeom prst="rect">
            <a:avLst/>
          </a:prstGeom>
          <a:ln w="0">
            <a:noFill/>
          </a:ln>
        </p:spPr>
      </p:pic>
      <p:sp>
        <p:nvSpPr>
          <p:cNvPr id="421" name="TextBox 3"/>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ick a Group – You will not be tied to this group if you want to change later.</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22" name="Rectangle 4"/>
          <p:cNvSpPr/>
          <p:nvPr/>
        </p:nvSpPr>
        <p:spPr>
          <a:xfrm>
            <a:off x="685800" y="2743200"/>
            <a:ext cx="7391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ants – research and/or writing, grant idea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 &amp; Clubs – which ones, research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 Magnet Fair, brochures, videos, </a:t>
            </a:r>
            <a:r>
              <a:rPr b="0" lang="en-US" sz="2400" spc="-1" strike="noStrike">
                <a:solidFill>
                  <a:srgbClr val="000000"/>
                </a:solidFill>
                <a:latin typeface="Century Gothic"/>
              </a:rPr>
              <a:t>	</a:t>
            </a:r>
            <a:r>
              <a:rPr b="0" lang="en-US" sz="2400" spc="-1" strike="noStrike">
                <a:solidFill>
                  <a:srgbClr val="000000"/>
                </a:solidFill>
                <a:latin typeface="Century Gothic"/>
              </a:rPr>
              <a:t>long and short presentations, etc.</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chnology – as in teaching and support</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riculum strategies &amp; Professional </a:t>
            </a:r>
            <a:r>
              <a:rPr b="0" lang="en-US" sz="2400" spc="-1" strike="noStrike">
                <a:solidFill>
                  <a:srgbClr val="000000"/>
                </a:solidFill>
                <a:latin typeface="Century Gothic"/>
              </a:rPr>
              <a:t>	</a:t>
            </a:r>
            <a:r>
              <a:rPr b="0" lang="en-US" sz="2400" spc="-1" strike="noStrike">
                <a:solidFill>
                  <a:srgbClr val="000000"/>
                </a:solidFill>
                <a:latin typeface="Century Gothic"/>
              </a:rPr>
              <a:t>development – PBL, inquiry, PLC, train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ty &amp; Business Partnership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Title 1" descr=""/>
          <p:cNvPicPr/>
          <p:nvPr/>
        </p:nvPicPr>
        <p:blipFill>
          <a:blip r:embed="rId2"/>
          <a:stretch/>
        </p:blipFill>
        <p:spPr>
          <a:xfrm>
            <a:off x="60480" y="-6480"/>
            <a:ext cx="8559720" cy="1158840"/>
          </a:xfrm>
          <a:prstGeom prst="rect">
            <a:avLst/>
          </a:prstGeom>
          <a:ln w="0">
            <a:noFill/>
          </a:ln>
        </p:spPr>
      </p:pic>
      <p:sp>
        <p:nvSpPr>
          <p:cNvPr id="372" name="TextBox 2"/>
          <p:cNvSpPr/>
          <p:nvPr/>
        </p:nvSpPr>
        <p:spPr>
          <a:xfrm>
            <a:off x="380880" y="1295280"/>
            <a:ext cx="84582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hared Vision &amp; Belief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ild active partnerships with community and business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yco, Comporium, Parent Survey for care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amp; share our STEM Vision with parents, students, community, and business partn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visit STEM schools, Open House, parent </a:t>
            </a:r>
            <a:r>
              <a:rPr b="0" lang="en-US" sz="2400" spc="-1" strike="noStrike">
                <a:solidFill>
                  <a:srgbClr val="000000"/>
                </a:solidFill>
                <a:latin typeface="Century Gothic"/>
              </a:rPr>
              <a:t>	</a:t>
            </a:r>
            <a:r>
              <a:rPr b="0" lang="en-US" sz="2400" spc="-1" strike="noStrike">
                <a:solidFill>
                  <a:srgbClr val="000000"/>
                </a:solidFill>
                <a:latin typeface="Century Gothic"/>
              </a:rPr>
              <a:t>informational meetings, Magnet Fair, Day of </a:t>
            </a:r>
            <a:r>
              <a:rPr b="0" lang="en-US" sz="2400" spc="-1" strike="noStrike">
                <a:solidFill>
                  <a:srgbClr val="000000"/>
                </a:solidFill>
                <a:latin typeface="Century Gothic"/>
              </a:rPr>
              <a:t>	</a:t>
            </a:r>
            <a:r>
              <a:rPr b="0" lang="en-US" sz="2400" spc="-1" strike="noStrike">
                <a:solidFill>
                  <a:srgbClr val="000000"/>
                </a:solidFill>
                <a:latin typeface="Century Gothic"/>
              </a:rPr>
              <a:t>Excellence</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Parent Involvemen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MS’ Club, Watch D.O.G.S., Day of Excellence, </a:t>
            </a:r>
            <a:r>
              <a:rPr b="0" lang="en-US" sz="2400" spc="-1" strike="noStrike">
                <a:solidFill>
                  <a:srgbClr val="000000"/>
                </a:solidFill>
                <a:latin typeface="Century Gothic"/>
              </a:rPr>
              <a:t>	</a:t>
            </a:r>
            <a:r>
              <a:rPr b="0" lang="en-US" sz="2400" spc="-1" strike="noStrike">
                <a:solidFill>
                  <a:srgbClr val="000000"/>
                </a:solidFill>
                <a:latin typeface="Century Gothic"/>
              </a:rPr>
              <a:t>Sci-Pi Nigh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Title 1" descr=""/>
          <p:cNvPicPr/>
          <p:nvPr/>
        </p:nvPicPr>
        <p:blipFill>
          <a:blip r:embed="rId2"/>
          <a:stretch/>
        </p:blipFill>
        <p:spPr>
          <a:xfrm>
            <a:off x="139680" y="-6480"/>
            <a:ext cx="8553600" cy="1158840"/>
          </a:xfrm>
          <a:prstGeom prst="rect">
            <a:avLst/>
          </a:prstGeom>
          <a:ln w="0">
            <a:noFill/>
          </a:ln>
        </p:spPr>
      </p:pic>
      <p:sp>
        <p:nvSpPr>
          <p:cNvPr id="374" name="TextBox 2"/>
          <p:cNvSpPr/>
          <p:nvPr/>
        </p:nvSpPr>
        <p:spPr>
          <a:xfrm>
            <a:off x="380880" y="1143000"/>
            <a:ext cx="83822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urturing Environment</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events &amp; clubs to enhance STEM curriculum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u="sng">
                <a:solidFill>
                  <a:srgbClr val="000000"/>
                </a:solidFill>
                <a:uFillTx/>
                <a:latin typeface="Century Gothic"/>
              </a:rPr>
              <a:t>Events</a:t>
            </a:r>
            <a:r>
              <a:rPr b="0" lang="en-US" sz="2400" spc="-1" strike="noStrike">
                <a:solidFill>
                  <a:srgbClr val="000000"/>
                </a:solidFill>
                <a:latin typeface="Century Gothic"/>
              </a:rPr>
              <a:t> – Sci-Pi Night, NHD, Day of Excellence</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ffffff"/>
                </a:solidFill>
                <a:uFillTx/>
                <a:latin typeface="Century Gothic"/>
              </a:rPr>
              <a:t>Clubs</a:t>
            </a:r>
            <a:r>
              <a:rPr b="0" lang="en-US" sz="2400" spc="-1" strike="noStrike">
                <a:solidFill>
                  <a:srgbClr val="ffffff"/>
                </a:solidFill>
                <a:latin typeface="Century Gothic"/>
              </a:rPr>
              <a:t> - Robotics, Science Olympiad, Math </a:t>
            </a:r>
            <a:r>
              <a:rPr b="0" lang="en-US" sz="2400" spc="-1" strike="noStrike">
                <a:solidFill>
                  <a:srgbClr val="ffffff"/>
                </a:solidFill>
                <a:latin typeface="Century Gothic"/>
              </a:rPr>
              <a:t>	</a:t>
            </a:r>
            <a:r>
              <a:rPr b="0" lang="en-US" sz="2400" spc="-1" strike="noStrike">
                <a:solidFill>
                  <a:srgbClr val="ffffff"/>
                </a:solidFill>
                <a:latin typeface="Century Gothic"/>
              </a:rPr>
              <a:t>Counts, Academic Team, Technology Student </a:t>
            </a:r>
            <a:r>
              <a:rPr b="0" lang="en-US" sz="2400" spc="-1" strike="noStrike">
                <a:solidFill>
                  <a:srgbClr val="ffffff"/>
                </a:solidFill>
                <a:latin typeface="Century Gothic"/>
              </a:rPr>
              <a:t>	</a:t>
            </a:r>
            <a:r>
              <a:rPr b="0" lang="en-US" sz="2400" spc="-1" strike="noStrike">
                <a:solidFill>
                  <a:srgbClr val="ffffff"/>
                </a:solidFill>
                <a:latin typeface="Century Gothic"/>
              </a:rPr>
              <a:t>Association (TSA)</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Title 3" descr=""/>
          <p:cNvPicPr/>
          <p:nvPr/>
        </p:nvPicPr>
        <p:blipFill>
          <a:blip r:embed="rId2"/>
          <a:stretch/>
        </p:blipFill>
        <p:spPr>
          <a:xfrm>
            <a:off x="195120" y="-6480"/>
            <a:ext cx="8498160" cy="1158840"/>
          </a:xfrm>
          <a:prstGeom prst="rect">
            <a:avLst/>
          </a:prstGeom>
          <a:ln w="0">
            <a:noFill/>
          </a:ln>
        </p:spPr>
      </p:pic>
      <p:sp>
        <p:nvSpPr>
          <p:cNvPr id="376"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griculture and Biotechnology Design  </a:t>
            </a:r>
            <a:r>
              <a:rPr b="0" lang="en-US" sz="1800" spc="-1" strike="noStrike">
                <a:solidFill>
                  <a:srgbClr val="000000"/>
                </a:solidFill>
                <a:latin typeface="Century Gothic"/>
              </a:rPr>
              <a:t>Participants (three teams per state) conduct research on a contemporary agriculture or biotechnology issue of their choosing, document their research, and create a display. The information gathered may be student-performed research or a re-creation or simulation of research performed by the scientific community. If appropriate, a model or prototype depicting some aspect of the issue may be included in the displa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areer Prep  </a:t>
            </a:r>
            <a:r>
              <a:rPr b="0" lang="en-US" sz="1800" spc="-1" strike="noStrike">
                <a:solidFill>
                  <a:srgbClr val="000000"/>
                </a:solidFill>
                <a:latin typeface="Century Gothic"/>
              </a:rPr>
              <a:t>Participants (one individual per chapter) conduct research on a selected technology-related career and use the knowledge gained to prepare a resume and cover letter, complete a job application, and participate in a mock interview.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mmunity Service Video</a:t>
            </a:r>
            <a:r>
              <a:rPr b="0" lang="en-US" sz="1800" spc="-1" strike="noStrike">
                <a:solidFill>
                  <a:srgbClr val="000000"/>
                </a:solidFill>
                <a:latin typeface="Century Gothic"/>
              </a:rPr>
              <a:t>  Participants [one team per chapter (entries may be submitted by an individual or group)] create and submit a finished video that highlights their chapter’s involvement with the American Cancer Society, national TSA’s service part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Title 3" descr=""/>
          <p:cNvPicPr/>
          <p:nvPr/>
        </p:nvPicPr>
        <p:blipFill>
          <a:blip r:embed="rId2"/>
          <a:stretch/>
        </p:blipFill>
        <p:spPr>
          <a:xfrm>
            <a:off x="195120" y="-6480"/>
            <a:ext cx="8498160" cy="1158840"/>
          </a:xfrm>
          <a:prstGeom prst="rect">
            <a:avLst/>
          </a:prstGeom>
          <a:ln w="0">
            <a:noFill/>
          </a:ln>
        </p:spPr>
      </p:pic>
      <p:sp>
        <p:nvSpPr>
          <p:cNvPr id="378" name="TextBox 4"/>
          <p:cNvSpPr/>
          <p:nvPr/>
        </p:nvSpPr>
        <p:spPr>
          <a:xfrm>
            <a:off x="304920" y="12193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gital Photography</a:t>
            </a:r>
            <a:r>
              <a:rPr b="0" lang="en-US" sz="1800" spc="-1" strike="noStrike">
                <a:solidFill>
                  <a:srgbClr val="000000"/>
                </a:solidFill>
                <a:latin typeface="Century Gothic"/>
              </a:rPr>
              <a:t>  Participants (three individuals per state) produce an album of color or black and white digital photographs that represent or relate to a chosen theme and place the album on a storage device for submission. Semifinalists produce a series of digital photographs taken at the conference site that have been edited appropriately for the on-site task.</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nvironmental Focus  </a:t>
            </a:r>
            <a:r>
              <a:rPr b="0" lang="en-US" sz="1800" spc="-1" strike="noStrike">
                <a:solidFill>
                  <a:srgbClr val="000000"/>
                </a:solidFill>
                <a:latin typeface="Century Gothic"/>
              </a:rPr>
              <a:t>Participants (one team per chapter) identify and research a specific environmental problem or issue that has been influenced by advancements in technology. Students present their findings in the form of a multimedia presentati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Flight  </a:t>
            </a:r>
            <a:r>
              <a:rPr b="0" lang="en-US" sz="1800" spc="-1" strike="noStrike">
                <a:solidFill>
                  <a:srgbClr val="000000"/>
                </a:solidFill>
                <a:latin typeface="Century Gothic"/>
              </a:rPr>
              <a:t>Participants (two individuals per chapter, one entry each) study the principles of flight and design in order to fabricate (using materials provided) and test-fly gliders. Gliders must be designed to be launched from a catapult that is provided on site. Flight duration of the gliders and documentation of the design process are the primary elements of the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Title 3" descr=""/>
          <p:cNvPicPr/>
          <p:nvPr/>
        </p:nvPicPr>
        <p:blipFill>
          <a:blip r:embed="rId2"/>
          <a:stretch/>
        </p:blipFill>
        <p:spPr>
          <a:xfrm>
            <a:off x="195120" y="-6480"/>
            <a:ext cx="8498160" cy="1158840"/>
          </a:xfrm>
          <a:prstGeom prst="rect">
            <a:avLst/>
          </a:prstGeom>
          <a:ln w="0">
            <a:noFill/>
          </a:ln>
        </p:spPr>
      </p:pic>
      <p:sp>
        <p:nvSpPr>
          <p:cNvPr id="380"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ultimedia Production</a:t>
            </a:r>
            <a:r>
              <a:rPr b="0" lang="en-US" sz="1800" spc="-1" strike="noStrike">
                <a:solidFill>
                  <a:srgbClr val="000000"/>
                </a:solidFill>
                <a:latin typeface="Century Gothic"/>
              </a:rPr>
              <a:t>  Participants (one individual per chapter, one entry per individual) use their creative skills to develop an animation that promotes the theme for the current yea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epared Speech</a:t>
            </a:r>
            <a:r>
              <a:rPr b="0" lang="en-US" sz="1800" spc="-1" strike="noStrike">
                <a:solidFill>
                  <a:srgbClr val="000000"/>
                </a:solidFill>
                <a:latin typeface="Century Gothic"/>
              </a:rPr>
              <a:t>  Participants (one individual per chapter) develop and deliver an oral presentation that reflects the theme of the current year’s national confere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omotional Design  </a:t>
            </a:r>
            <a:r>
              <a:rPr b="0" lang="en-US" sz="1800" spc="-1" strike="noStrike">
                <a:solidFill>
                  <a:srgbClr val="000000"/>
                </a:solidFill>
                <a:latin typeface="Century Gothic"/>
              </a:rPr>
              <a:t>Participants (two individuals per chapter, one entry per individual) create and produce a color pin design that is appropriate for trading at the national TSA conferenc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Video Game Design</a:t>
            </a:r>
            <a:r>
              <a:rPr b="0" lang="en-US" sz="1800" spc="-1" strike="noStrike">
                <a:solidFill>
                  <a:srgbClr val="000000"/>
                </a:solidFill>
                <a:latin typeface="Century Gothic"/>
              </a:rPr>
              <a:t>   Participants [one team (of at least two participants) per chapter, one entry per team] develop an E-rated game that focuses on the subject of their choice. The game should be interesting, exciting, visually appealing and intellectually challenging. A working, interactive game is submitted for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Title 1" descr=""/>
          <p:cNvPicPr/>
          <p:nvPr/>
        </p:nvPicPr>
        <p:blipFill>
          <a:blip r:embed="rId2"/>
          <a:stretch/>
        </p:blipFill>
        <p:spPr>
          <a:xfrm>
            <a:off x="139680" y="-6480"/>
            <a:ext cx="8553600" cy="1158840"/>
          </a:xfrm>
          <a:prstGeom prst="rect">
            <a:avLst/>
          </a:prstGeom>
          <a:ln w="0">
            <a:noFill/>
          </a:ln>
        </p:spPr>
      </p:pic>
      <p:sp>
        <p:nvSpPr>
          <p:cNvPr id="382" name="TextBox 2"/>
          <p:cNvSpPr/>
          <p:nvPr/>
        </p:nvSpPr>
        <p:spPr>
          <a:xfrm>
            <a:off x="380880" y="11430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Future Focu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ject-based learning (PBL) units into all grade levels once a seme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fessional Learning Communities (PLC) to connect teachers with information, strategies, and best practic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ate career focus into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inquiry-based learning strategi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Title 1" descr=""/>
          <p:cNvPicPr/>
          <p:nvPr/>
        </p:nvPicPr>
        <p:blipFill>
          <a:blip r:embed="rId2"/>
          <a:stretch/>
        </p:blipFill>
        <p:spPr>
          <a:xfrm>
            <a:off x="139680" y="-6480"/>
            <a:ext cx="8553600" cy="1158840"/>
          </a:xfrm>
          <a:prstGeom prst="rect">
            <a:avLst/>
          </a:prstGeom>
          <a:ln w="0">
            <a:noFill/>
          </a:ln>
        </p:spPr>
      </p:pic>
      <p:sp>
        <p:nvSpPr>
          <p:cNvPr id="384" name="TextBox 2"/>
          <p:cNvSpPr/>
          <p:nvPr/>
        </p:nvSpPr>
        <p:spPr>
          <a:xfrm>
            <a:off x="380880" y="13716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Quality Work Design &amp; Delivery</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work curriculum maps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STEM interdisciplinary unit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itute Project Lead the Way classroom and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in teachers on STEM instruction</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Data Roo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Title 1" descr=""/>
          <p:cNvPicPr/>
          <p:nvPr/>
        </p:nvPicPr>
        <p:blipFill>
          <a:blip r:embed="rId2"/>
          <a:stretch/>
        </p:blipFill>
        <p:spPr>
          <a:xfrm>
            <a:off x="92160" y="201600"/>
            <a:ext cx="860112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1:36:38Z</dcterms:created>
  <dc:creator>Brenda Campbell</dc:creator>
  <dc:description/>
  <dc:language>en-US</dc:language>
  <cp:lastModifiedBy>USER</cp:lastModifiedBy>
  <dcterms:modified xsi:type="dcterms:W3CDTF">2011-09-21T12:17:30Z</dcterms:modified>
  <cp:revision>21</cp:revision>
  <dc:subject/>
  <dc:title>Slide 1</dc:title>
</cp:coreProperties>
</file>